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13DC-962C-452C-879D-CB61F0002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7437-C65C-42EF-A7B1-5F8E4A953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48FED-FCE8-434B-8502-4DCDE23F2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2852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75240"/>
            <a:ext cx="250236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5B7A-1BB9-44B7-91BB-1C4C7E948B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22E1-E13F-48EA-AD16-FE03D61A1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74372-90CE-4ED9-8C57-0C945070F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511F-DEC6-4E29-90CA-DBF43E09C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EC1C-164B-4BA8-9DE7-D0C7F5684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1360" y="39960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F07B-B9C5-4095-B1FF-C2CE480BE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FAEA-EE88-4C1C-A7C9-288E5023D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7524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236A-3D54-4555-B372-C9DA5913F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1360" y="366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28520"/>
            <a:ext cx="37926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75240"/>
            <a:ext cx="7772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EFB0-CB31-4875-B316-567D6D913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100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884B-E354-4EBB-8473-174989FD7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304920" y="97164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06440" y="617220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mplescalar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Simplescalar’s out-of-order simulator (v3)</a:t>
            </a:r>
            <a:endParaRPr b="0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CE177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reas Moshov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si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www.simplescalar.c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additional inf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was developed by Todd Austin now at Michiga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rst version while at UWisconsin. Builds on the experience with other simulators that existed at the time at UWis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roduced many simulation speed enhancement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be used for free for academic purpos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 (i=0, branch_cnt=0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p to as many instruction as the DISPATCH stage can decod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 &lt; (ruu_decode_width * fetch_spee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fetch until IFETCH -&gt; DISPATCH queue fills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fetch_num &lt; ruu_ifq_siz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nd no IFETCH blocking condition encounter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amp;&amp; !don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+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IN LOO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ne is used for enforcing fetch break condi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ly this happens only when number of branches exceeds fetch_spe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nvalid Address Check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ld_text_base &lt;= fetch_regs_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fetch_regs_PC &lt; (ld_text_base+ld_text_siz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amp;&amp; !(fetch_regs_PC &amp; (sizeof(md_inst_t)-1)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/* read instruction from memory */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D_FETCH_INST(inst, mem, fetch_regs_PC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– I-Cache Acces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cache_il1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access the I-cache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cache_il1, Read, IACOMPRESS(fetch_regs_PC)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ISCOMPRESS(sizeof(md_inst_t)), sim_cycle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LL, NULL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&gt; cache_il1_lat)  last_inst_missed = TRUE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itl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lb_la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= cache_access(itlb, Read, IACOMPRESS(fetch_regs_PC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t = MAX(tlb_lat, lat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(lat != cache_il1_la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* I-cache miss, block fetch until it is resolved */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= lat - 1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im_main()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 ruu_fetch() cod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!</a:t>
            </a: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ruu_fetch_issue_de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(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fetch_issue_delay--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inst from fetch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nctionally execute the instru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lit load/stores in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 Address calc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Memory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input dependen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rget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into scheduler RUU[] and load/store LSQ[] scheduler if necessa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if miss-predi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sue if read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unctional and timing execu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gnore miss-predicts for the time be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executes all instructions in-order during dispat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y update registers and memory at that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n it tries to determine when they would actually execute taking into consideration dependences and latenc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simulation so we can do th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s: fast, easy to debu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: timing model can be wrong and the simulation will not produce incorrect resul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modes: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&amp; miss-specula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dispatch switches to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when it decodes a miss-predicted bran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now about it because it executes the branch and figures out whether the prediction is corre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lobal “spec_mode” is 1 when in miss-speculated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witch back to correct when branch is resolv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andling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ep two states: correct and miss-specul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regs there is regs_R[] and spec_regs_R[] (and _F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memory, there is mem_access and spec_mem_ac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ulative memory updates are kept in a temporary hash t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s access this table first and then memory if need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ores only write to it when in spec mo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correct state access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in spec_mode access the miss-speculated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ffect: No need to restore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orrect, speculative updates do not clobber the correct st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squashing we simply return to the correct st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.e., disregard the spec. hash mem tabl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reading from fetch buff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 = fetch_data[fetch_head].I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s.regs_PC = fetch_data[fetch_head].regs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fetch_data[fetch_head].pred_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r_update_ptr = &amp;(fetch_data[fetch_head].dir_updat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ck_recover_idx = fetch_data[fetch_head].stack_recover_idx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pseq = fetch_data[fetch_head].ptrace_seq; ignore all pse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They are for a “debugging/tracing” facility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rcular buffer named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ch entry contai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nstruction, PC and pred_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id bits for input regis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linked list of consumers per target regis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 back-poin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us flags, e.g., what state is this in, is it an address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 instruction can execute when all source registers are available: readyq in ruu_issue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n writeback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target list and set bits of consumers and places them on readyq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at is sim-outord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roximate model of dynamically scheduled process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ulat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ca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anch predi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and D TLBs (constant late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ed Reorder buffer and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ister renam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speculative execution after bran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ructure: RUU_sta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UU_st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inst_t IR;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ruction bit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um md_opcode op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decoded instruction opc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PC, next_PC, pred_PC;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st PC, next PC, predicted PC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n_LSQ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in LSQ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ea_comp;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op is an addr comp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recover_inst;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start of mis-speculation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tack_recover_idx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speculative TOS for RSB pr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bpred_update_t dir_update;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bpred direction update info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spec_mode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non-zero if issued in spec_mode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d_addr_t addr;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effective address for ld/st'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TAG_TYPE tag;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RUU slot tag, increment to squash opera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_SEQ_TYPE seq;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used to sort the ready list and tag inst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que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nds ready and queued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ssued;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is/was executing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completed;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peration has completed execution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onames[MAX_ODEPS];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output logical names (NA=unused)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uct RS_link *odep_list[MAX_ODEPS];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chains to consuming operations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 idep_ready[MAX_IDEPS];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* input operand ready? */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cheduler Stat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[]: in-order instructions to be execu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cated at disp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allocated at commit or on squash (tracer_recover(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head, RUU_tail, RUU_num, RUU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[]: in order loads and sto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as abo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ing is done by comparing addres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on this so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termining Dependen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 (rs, /* odep_list[] index*/0, reg_name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name table: CREATE_VECTOR(reg_nam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s pointer to RUU entry of producer or NULL if result is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tual data type is CV_link (RUU_station *, nex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reg_name, RUU sta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ke this RUU_Station the current producer of reg_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copies of the create vector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_vector and spec_create_ve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g Non-Load/Store Instru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0, in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1, in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link_idep(rs, /* idep_ready[] index */2, in3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0, out1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install_odep(rs, /* odep_list[] index */1, out2)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namind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0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rs, /* idep_ready[] index */2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3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0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rs, /* odep_list[] index */1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/* idep_ready[] index */STORE_OP_INDEX/* 0 */,in1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STORE_ADDR_INDEX/* 1 */, </a:t>
            </a: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TMP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link_idep(lsq, /* idep_ready[] index */2, NA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0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nstall_odep(lsq, /* odep_list[] index */1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dep_link (rs, idep_num, idep_name) 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head; struct RS_link *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i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 = CREATE_VECTOR(idep_name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head.r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TRUE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idep_ready[idep_num] = FALS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LINK_NEW(link, rs); link-&gt;x.opnum = idep_num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-&gt;next = head.rs-&gt;odep_list[head.odep_num]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.rs-&gt;odep_list[head.odep_num] = lin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REATE_VECTOR(N): Register Rename Table Rea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BITMAP_SET_P(use_spec_cv, CV_BMAP_SZ, (N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 spec_create_vector[N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 create_vector[N]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_spec_cv(N) is set when we rename the target register N while in spec_m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is a bit vector: one bit per reg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nstall_odep(rs, odep_num, odep_name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ct CV_link cv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odep_name == N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NA, return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names[odep_num] = odep_nam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odep_list[odep_num] = NULL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indicate this operation is latest creator of ODEP_NAME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VLINK_INIT(cv, rs, odep_num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_CREATE_VECTOR(odep_name, cv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ET_CREATE_VECTOR(odep_name, cv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 the current producer of register odep_name to the RUU entry stored in the cv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T_CREATE_VECTOR(N, 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f (spec_mod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ITMAP_SET(use_spec_cv, CV_BMAP_SZ, (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ec_create_vector[N] = (L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create_vector[N] = (L)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o need to keep old mapping around since we never have to re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dispatch(): determining ready to issue ins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OPERANDS_READY(rs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eff addr computation ready, queue it on ready list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rs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may continue when the load/store is issued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LINK_INIT(last_op, lsq); // for in-order simu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issue stores only, loads are issued by lsq_refresh()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(((MD_OP_FLAGS(op) &amp; (F_MEM|F_STORE)) == (F_MEM|F_STORE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amp;&amp; OPERANDS_READY(lsq)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put operation on ready list, ruu_issue() issue it later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dyq_enqueue(lsq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52040" y="2021040"/>
            <a:ext cx="7232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0312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441240" y="2021040"/>
            <a:ext cx="91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030640" y="2021040"/>
            <a:ext cx="708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365520" y="2021040"/>
            <a:ext cx="5832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549560" y="2021040"/>
            <a:ext cx="9867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521160" y="2666880"/>
            <a:ext cx="916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0338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548480" y="2666880"/>
            <a:ext cx="736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782280" y="2971800"/>
            <a:ext cx="10008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909800" y="2971800"/>
            <a:ext cx="7920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157200" y="380988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756760" y="3657600"/>
            <a:ext cx="1110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093080" y="3657600"/>
            <a:ext cx="9014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278320" y="4876920"/>
            <a:ext cx="16956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5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8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9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2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3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768240" y="1219320"/>
            <a:ext cx="81936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5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0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1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iss-Prediction Detection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MD_OP_FLAGS(op) &amp; F_CTR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num_branches++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 &amp;&amp; bpred_spec_update == spec_I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predictor if configured for spec. upd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pred_PC != regs.regs_NPC &amp;&amp; !fetch_redire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ec_mode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-&gt;recover_inst = TRU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over_PC = regs.regs_NP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Dynamic scheduling of non loads/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alk the readyq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y to get resources (FU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ut an entry into the event_q for the completion ti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to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q is serviced by ruu_write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Who places instructions in readyq?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readyq means the instruction is ready to iss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dispatch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-load/store if all sources ar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ncludes the address component of lds/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res if data is available. Recall address computation is separate “instruction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writeback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writes last result a consumer waits 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ed every cycle: Load is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ress is know, all preceding store addresses known and there is no conflict with unavailable store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main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ntry from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ill valid (RSLINK_VALID(rs)) try to execu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complete instantaneously nothing to produ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 = res_get (fu_pool, MD_OP_class (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p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nctional unit for instruction based on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of exec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loads access data cache and tl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ue event in eventq for completion (ruu_writeback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ntq_queue_event(rs, sim_cycle + latency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annot execute place back in readyq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mem port resour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LSQ for matching preceding st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this to be executing it must be that if there is a matching store then it has its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s called store-load forwar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 match, access cache_dl1 and dtl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latency to be the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issue(): High-Level Structur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orary list node= readyq; readyq = NUL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 long as there are issue slots avail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t next element from n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still vali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y to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 eventq ev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back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ce remaining nodes back into readyq (readyq_enqueue() sorted by latency and ag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rder in readyq implicit issue prior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Placing loads into readyq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Q uses same elements as RU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heduling is done based on addr field and availability of operan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forward (LSQ_head, counting to LSQ_num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p if address is unknow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oads after it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data unavailable record address in std_unkn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ads that need this data should wa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all register op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std_unknowns for match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 in readyq if no ma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sto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!STORE_ADDR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if (!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n_std_unknowns++] = LSQ[index].add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se /* STORE_ADDR_READY() &amp;&amp; OPERANDS_READY()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* a later STD known hides an earlier STD unknown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/* STA/STD known */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d_unknowns[j] = /* bogus addr */0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_refresh(): Load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/* load? *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(MD_OP_FLAGS(LSQ[index].op) &amp; (F_MEM|F_LOAD)) == (F_MEM|F_LOAD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queued? */!LSQ[index].que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waiting? */!LSQ[index].issu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completed? */!LSQ[index].comple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&amp; /* regs ready? */OPERANDS_READY(&amp;LSQ[index])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j=0; j&lt;n_std_unknowns; j++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std_unknowns[j] == LSQ[index].add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j == n_std_unknown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* no STA or STD unknown conflicts, put load on ready queue *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yq_enqueue(&amp;LSQ[index]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writeback(): Producer notifies consumer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next event from event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this is a recover instru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quash all that foll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cover, tracer_recover() &amp; bpred_recover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branch update predi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 rename table if still the crea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s-&gt;spec_mode determines which 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sequent consumers can get result from register fi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lk output dependence li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link still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idep_ready fla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consumer becomes ready place on readyq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Main Simulator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_main: forever d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commit 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release_fu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bookeeping of which functional units are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writeback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sq_refres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/store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ssue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load/store instruction schedu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correspond to the green boxes on the previous sli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ry iteration is a single cyc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sim_cycle variable count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covering from Miss-Prediction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ver_inst as set by ruu_dispatch writesb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u_recover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the end of RUU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n up output dependence lists freeing RSLin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e for LSQ entry if it exists (1-to-1 correspondence with RUU entries that have 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_comp se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g++ (invalidate all RSLinks to this RUU, could be that we linked to producer that will not be squash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r use_spec_cv (create vecto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tracer_recover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r use_spec_R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itmaps indicating where register values 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when writing to register file in spec_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eanup speculative memory store st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et fetch stage by emptying fetch_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_tail = fetch_head = fetch_num = 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 bpred_recover look into bpred.c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commit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n starting from the oldest inst in RUU (RUU_hea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completed then try to comm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store get memory port and write to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il if can’t get re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es not simulate write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cess data cach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load/store release LSQ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branch update predictor if so configur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ease RUU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How is sim-outorder structu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77240" y="202104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133000" y="2021040"/>
            <a:ext cx="766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503880" y="2021040"/>
            <a:ext cx="9518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073480" y="2021040"/>
            <a:ext cx="7401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6367320" y="2021040"/>
            <a:ext cx="6714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7574400" y="2021040"/>
            <a:ext cx="1114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503880" y="2666880"/>
            <a:ext cx="95184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0688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583400" y="2666880"/>
            <a:ext cx="792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42680" y="2971800"/>
            <a:ext cx="1080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894680" y="2971800"/>
            <a:ext cx="9594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114360" y="380988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713200" y="3657600"/>
            <a:ext cx="119736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7085520" y="3657600"/>
            <a:ext cx="10767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5149800" y="4876920"/>
            <a:ext cx="1953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297180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2971800" y="228600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4495680" y="2895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 flipV="1">
            <a:off x="5943600" y="2438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54864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7"/>
          <p:cNvSpPr/>
          <p:nvPr/>
        </p:nvSpPr>
        <p:spPr>
          <a:xfrm flipH="1">
            <a:off x="6629400" y="30481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1828800" y="350532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9"/>
          <p:cNvSpPr/>
          <p:nvPr/>
        </p:nvSpPr>
        <p:spPr>
          <a:xfrm flipH="1">
            <a:off x="434340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0"/>
          <p:cNvSpPr/>
          <p:nvPr/>
        </p:nvSpPr>
        <p:spPr>
          <a:xfrm>
            <a:off x="4038480" y="4648320"/>
            <a:ext cx="10670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1143000" y="25146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811440" y="1219320"/>
            <a:ext cx="875520" cy="459720"/>
          </a:xfrm>
          <a:prstGeom prst="rect">
            <a:avLst/>
          </a:prstGeom>
          <a:solidFill>
            <a:srgbClr val="ff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129528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4"/>
          <p:cNvSpPr/>
          <p:nvPr/>
        </p:nvSpPr>
        <p:spPr>
          <a:xfrm flipV="1">
            <a:off x="6705720" y="1600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5"/>
          <p:cNvSpPr/>
          <p:nvPr/>
        </p:nvSpPr>
        <p:spPr>
          <a:xfrm flipH="1">
            <a:off x="1676520" y="1600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6"/>
          <p:cNvSpPr/>
          <p:nvPr/>
        </p:nvSpPr>
        <p:spPr>
          <a:xfrm flipH="1">
            <a:off x="1523880" y="16002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581280" y="2438280"/>
            <a:ext cx="9144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49568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s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715000" y="2438280"/>
            <a:ext cx="121932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934320" y="2438280"/>
            <a:ext cx="121896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 p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5812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5812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629720" y="21337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35812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27432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fe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4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5812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136548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27432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9"/>
          <p:cNvSpPr/>
          <p:nvPr/>
        </p:nvSpPr>
        <p:spPr>
          <a:xfrm rot="16200000">
            <a:off x="7548480" y="278676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if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83059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 flipV="1">
            <a:off x="83059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2029320" y="28954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33526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3276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3505320" y="4495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7"/>
          <p:cNvSpPr/>
          <p:nvPr/>
        </p:nvSpPr>
        <p:spPr>
          <a:xfrm flipH="1" flipV="1">
            <a:off x="2895480" y="42670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8"/>
          <p:cNvSpPr/>
          <p:nvPr/>
        </p:nvSpPr>
        <p:spPr>
          <a:xfrm rot="2569200">
            <a:off x="2552760" y="44193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0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308040" y="55627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2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3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RUU[WINDOW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931320" y="21337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66720" y="38862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6"/>
          <p:cNvSpPr/>
          <p:nvPr/>
        </p:nvSpPr>
        <p:spPr>
          <a:xfrm rot="16200000">
            <a:off x="6970320" y="275148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8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1330560" y="289548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U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25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6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0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1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5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6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3352680" y="1066680"/>
            <a:ext cx="2057400" cy="4648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5562720" y="3733920"/>
            <a:ext cx="190476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truct RUU_station Scheduling Related Entri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05320" y="16002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5053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426840" y="114300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put ready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5053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3505320" y="2362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p_ready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3505320" y="35053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5257800" y="3733920"/>
            <a:ext cx="38088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638680" y="3809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5638680" y="419112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RUU[cosum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5638680" y="4572000"/>
            <a:ext cx="1752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5638680" y="4952880"/>
            <a:ext cx="17528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op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350680" y="33526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consumer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7848720" y="4038480"/>
            <a:ext cx="3204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3505320" y="4038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mes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3505320" y="44197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p_list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3505320" y="51814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5530320" y="121932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must b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3446640" y="274320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Output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529440" y="480060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Uniqu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457200" y="1143000"/>
            <a:ext cx="2362320" cy="2438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447920" y="19051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6"/>
          <p:cNvSpPr/>
          <p:nvPr/>
        </p:nvSpPr>
        <p:spPr>
          <a:xfrm rot="622200">
            <a:off x="2925000" y="18284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8"/>
          <p:cNvSpPr/>
          <p:nvPr/>
        </p:nvSpPr>
        <p:spPr>
          <a:xfrm>
            <a:off x="6019920" y="2209680"/>
            <a:ext cx="236196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9"/>
          <p:cNvSpPr/>
          <p:nvPr/>
        </p:nvSpPr>
        <p:spPr>
          <a:xfrm rot="2218800">
            <a:off x="6766560" y="32000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Walk and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0"/>
          <p:cNvSpPr/>
          <p:nvPr/>
        </p:nvSpPr>
        <p:spPr>
          <a:xfrm>
            <a:off x="6400800" y="28195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1"/>
          <p:cNvSpPr/>
          <p:nvPr/>
        </p:nvSpPr>
        <p:spPr>
          <a:xfrm flipH="1" flipV="1">
            <a:off x="5105520" y="2209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2"/>
          <p:cNvSpPr/>
          <p:nvPr/>
        </p:nvSpPr>
        <p:spPr>
          <a:xfrm rot="1338000">
            <a:off x="5439240" y="198072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3"/>
          <p:cNvSpPr/>
          <p:nvPr/>
        </p:nvSpPr>
        <p:spPr>
          <a:xfrm>
            <a:off x="380880" y="5410080"/>
            <a:ext cx="236232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921240" y="51055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2666880" y="525780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6"/>
          <p:cNvSpPr/>
          <p:nvPr/>
        </p:nvSpPr>
        <p:spPr>
          <a:xfrm rot="1396800">
            <a:off x="2170800" y="48002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val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7"/>
          <p:cNvSpPr/>
          <p:nvPr/>
        </p:nvSpPr>
        <p:spPr>
          <a:xfrm rot="640200">
            <a:off x="973440" y="1828440"/>
            <a:ext cx="18936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link_i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9"/>
          <p:cNvSpPr/>
          <p:nvPr/>
        </p:nvSpPr>
        <p:spPr>
          <a:xfrm>
            <a:off x="15238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0"/>
          <p:cNvSpPr/>
          <p:nvPr/>
        </p:nvSpPr>
        <p:spPr>
          <a:xfrm rot="622200">
            <a:off x="3001320" y="320004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8"/>
          <p:cNvSpPr/>
          <p:nvPr/>
        </p:nvSpPr>
        <p:spPr>
          <a:xfrm rot="640200">
            <a:off x="710640" y="297180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1"/>
          <p:cNvSpPr/>
          <p:nvPr/>
        </p:nvSpPr>
        <p:spPr>
          <a:xfrm>
            <a:off x="2133720" y="358128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2"/>
          <p:cNvSpPr/>
          <p:nvPr/>
        </p:nvSpPr>
        <p:spPr>
          <a:xfrm rot="2961600">
            <a:off x="2633040" y="394848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5615640" y="53816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RS_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7848720" y="4038480"/>
            <a:ext cx="114300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7924680" y="4114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46"/>
          <p:cNvSpPr/>
          <p:nvPr/>
        </p:nvSpPr>
        <p:spPr>
          <a:xfrm>
            <a:off x="7924680" y="4495680"/>
            <a:ext cx="10512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7924680" y="487692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8"/>
          <p:cNvSpPr/>
          <p:nvPr/>
        </p:nvSpPr>
        <p:spPr>
          <a:xfrm>
            <a:off x="7924680" y="5257800"/>
            <a:ext cx="10512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49"/>
          <p:cNvSpPr/>
          <p:nvPr/>
        </p:nvSpPr>
        <p:spPr>
          <a:xfrm>
            <a:off x="7391520" y="4114800"/>
            <a:ext cx="5331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50"/>
          <p:cNvSpPr/>
          <p:nvPr/>
        </p:nvSpPr>
        <p:spPr>
          <a:xfrm>
            <a:off x="8458200" y="3733920"/>
            <a:ext cx="685800" cy="2133360"/>
          </a:xfrm>
          <a:custGeom>
            <a:avLst/>
            <a:gdLst/>
            <a:ahLst/>
            <a:rect l="l" t="t" r="r" b="b"/>
            <a:pathLst>
              <a:path w="432" h="1344">
                <a:moveTo>
                  <a:pt x="288" y="0"/>
                </a:moveTo>
                <a:lnTo>
                  <a:pt x="0" y="576"/>
                </a:lnTo>
                <a:lnTo>
                  <a:pt x="192" y="864"/>
                </a:lnTo>
                <a:lnTo>
                  <a:pt x="0" y="1344"/>
                </a:lnTo>
                <a:lnTo>
                  <a:pt x="432" y="1344"/>
                </a:lnTo>
                <a:lnTo>
                  <a:pt x="384" y="48"/>
                </a:lnTo>
                <a:lnTo>
                  <a:pt x="2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52"/>
          <p:cNvSpPr/>
          <p:nvPr/>
        </p:nvSpPr>
        <p:spPr>
          <a:xfrm flipV="1">
            <a:off x="5105520" y="472392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LSQ: Load/Store Schedul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me as RUU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2895480" y="281952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895480" y="3200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937080" y="21337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2895480" y="2057400"/>
            <a:ext cx="4572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2057400" y="23623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2895480" y="3581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72840" y="38862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V="1">
            <a:off x="2057400" y="3504960"/>
            <a:ext cx="838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2"/>
          <p:cNvSpPr/>
          <p:nvPr/>
        </p:nvSpPr>
        <p:spPr>
          <a:xfrm rot="16200000">
            <a:off x="6998400" y="27723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7620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4"/>
          <p:cNvSpPr/>
          <p:nvPr/>
        </p:nvSpPr>
        <p:spPr>
          <a:xfrm flipV="1">
            <a:off x="762012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1336680" y="28954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Q_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266688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25909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8"/>
          <p:cNvSpPr/>
          <p:nvPr/>
        </p:nvSpPr>
        <p:spPr>
          <a:xfrm>
            <a:off x="2590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2895480" y="2438280"/>
            <a:ext cx="4572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3505320" y="10666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1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2"/>
          <p:cNvSpPr/>
          <p:nvPr/>
        </p:nvSpPr>
        <p:spPr>
          <a:xfrm rot="19215000">
            <a:off x="2617560" y="1371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3276720" y="4267080"/>
            <a:ext cx="4724280" cy="6098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comm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4"/>
          <p:cNvSpPr/>
          <p:nvPr/>
        </p:nvSpPr>
        <p:spPr>
          <a:xfrm flipH="1" flipV="1">
            <a:off x="26668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 rot="2569200">
            <a:off x="2324160" y="41907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4495680" y="5486400"/>
            <a:ext cx="365760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7"/>
          <p:cNvSpPr/>
          <p:nvPr/>
        </p:nvSpPr>
        <p:spPr>
          <a:xfrm flipH="1">
            <a:off x="27428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3283560" y="556272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9"/>
          <p:cNvSpPr/>
          <p:nvPr/>
        </p:nvSpPr>
        <p:spPr>
          <a:xfrm flipH="1" flipV="1">
            <a:off x="2209680" y="4343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 rot="20405400">
            <a:off x="746280" y="47242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l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When re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iss-predi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3276720" y="1447920"/>
            <a:ext cx="1904760" cy="1981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Renaming Structur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352680" y="15238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84984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653120" y="14479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352680" y="19051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510552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510552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602320" y="10666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858000" y="15238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6858000" y="19051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7346880" y="1066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14"/>
          <p:cNvSpPr/>
          <p:nvPr/>
        </p:nvSpPr>
        <p:spPr>
          <a:xfrm>
            <a:off x="6172200" y="1295280"/>
            <a:ext cx="838080" cy="114300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019920" y="2362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6553080" y="1066680"/>
            <a:ext cx="609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9"/>
          <p:cNvSpPr/>
          <p:nvPr/>
        </p:nvSpPr>
        <p:spPr>
          <a:xfrm>
            <a:off x="3352680" y="259092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911520" y="228600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create_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3352680" y="29718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510552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510552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6"/>
          <p:cNvSpPr/>
          <p:nvPr/>
        </p:nvSpPr>
        <p:spPr>
          <a:xfrm>
            <a:off x="6858000" y="259092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7"/>
          <p:cNvSpPr/>
          <p:nvPr/>
        </p:nvSpPr>
        <p:spPr>
          <a:xfrm>
            <a:off x="6858000" y="29718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num (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39"/>
          <p:cNvSpPr/>
          <p:nvPr/>
        </p:nvSpPr>
        <p:spPr>
          <a:xfrm>
            <a:off x="6172200" y="2438280"/>
            <a:ext cx="838080" cy="106704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0"/>
          <p:cNvSpPr/>
          <p:nvPr/>
        </p:nvSpPr>
        <p:spPr>
          <a:xfrm>
            <a:off x="6095880" y="34290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1"/>
          <p:cNvSpPr/>
          <p:nvPr/>
        </p:nvSpPr>
        <p:spPr>
          <a:xfrm>
            <a:off x="6477120" y="2438280"/>
            <a:ext cx="6094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3"/>
          <p:cNvSpPr/>
          <p:nvPr/>
        </p:nvSpPr>
        <p:spPr>
          <a:xfrm>
            <a:off x="1612440" y="35812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825840" y="30481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Vector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699840" y="106668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Link to RUU and outpu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9"/>
          <p:cNvSpPr/>
          <p:nvPr/>
        </p:nvSpPr>
        <p:spPr>
          <a:xfrm>
            <a:off x="3124080" y="1371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0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54"/>
          <p:cNvSpPr/>
          <p:nvPr/>
        </p:nvSpPr>
        <p:spPr>
          <a:xfrm flipH="1" flipV="1">
            <a:off x="4114800" y="34290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5"/>
          <p:cNvSpPr/>
          <p:nvPr/>
        </p:nvSpPr>
        <p:spPr>
          <a:xfrm rot="2122800">
            <a:off x="5515560" y="4190760"/>
            <a:ext cx="4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56"/>
          <p:cNvSpPr/>
          <p:nvPr/>
        </p:nvSpPr>
        <p:spPr>
          <a:xfrm>
            <a:off x="6120720" y="4648320"/>
            <a:ext cx="2233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nstall_o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8"/>
          <p:cNvSpPr/>
          <p:nvPr/>
        </p:nvSpPr>
        <p:spPr>
          <a:xfrm flipH="1" flipV="1">
            <a:off x="3657600" y="3962160"/>
            <a:ext cx="2362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9"/>
          <p:cNvSpPr/>
          <p:nvPr/>
        </p:nvSpPr>
        <p:spPr>
          <a:xfrm rot="1329000">
            <a:off x="3972960" y="403812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1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63"/>
          <p:cNvSpPr/>
          <p:nvPr/>
        </p:nvSpPr>
        <p:spPr>
          <a:xfrm flipV="1">
            <a:off x="2666880" y="34286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4"/>
          <p:cNvSpPr/>
          <p:nvPr/>
        </p:nvSpPr>
        <p:spPr>
          <a:xfrm rot="18046800">
            <a:off x="2152080" y="420048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to 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6"/>
          <p:cNvSpPr/>
          <p:nvPr/>
        </p:nvSpPr>
        <p:spPr>
          <a:xfrm>
            <a:off x="2978640" y="5029200"/>
            <a:ext cx="16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67"/>
          <p:cNvSpPr/>
          <p:nvPr/>
        </p:nvSpPr>
        <p:spPr>
          <a:xfrm flipV="1">
            <a:off x="3352680" y="40384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68"/>
          <p:cNvSpPr/>
          <p:nvPr/>
        </p:nvSpPr>
        <p:spPr>
          <a:xfrm rot="17191200">
            <a:off x="2993040" y="43657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9"/>
          <p:cNvSpPr/>
          <p:nvPr/>
        </p:nvSpPr>
        <p:spPr>
          <a:xfrm>
            <a:off x="3352680" y="35053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350532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4"/>
          <p:cNvSpPr/>
          <p:nvPr/>
        </p:nvSpPr>
        <p:spPr>
          <a:xfrm>
            <a:off x="5257800" y="35812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5"/>
          <p:cNvSpPr/>
          <p:nvPr/>
        </p:nvSpPr>
        <p:spPr>
          <a:xfrm>
            <a:off x="7010280" y="35812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6"/>
          <p:cNvSpPr/>
          <p:nvPr/>
        </p:nvSpPr>
        <p:spPr>
          <a:xfrm>
            <a:off x="5715000" y="3809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gister State e.g., reg_R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352680" y="1371600"/>
            <a:ext cx="1752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384984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959840" y="12952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s.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510552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5602320" y="9144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6858000" y="1371600"/>
            <a:ext cx="1752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7346880" y="9144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15"/>
          <p:cNvSpPr/>
          <p:nvPr/>
        </p:nvSpPr>
        <p:spPr>
          <a:xfrm>
            <a:off x="6172200" y="1143000"/>
            <a:ext cx="838080" cy="76212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6553080" y="9144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6119640" y="25146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1713960" y="26668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_spec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9"/>
          <p:cNvSpPr/>
          <p:nvPr/>
        </p:nvSpPr>
        <p:spPr>
          <a:xfrm>
            <a:off x="679680" y="26668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g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2"/>
          <p:cNvSpPr/>
          <p:nvPr/>
        </p:nvSpPr>
        <p:spPr>
          <a:xfrm>
            <a:off x="6095880" y="4876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3"/>
          <p:cNvSpPr/>
          <p:nvPr/>
        </p:nvSpPr>
        <p:spPr>
          <a:xfrm flipH="1" flipV="1">
            <a:off x="4495320" y="236196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7"/>
          <p:cNvSpPr/>
          <p:nvPr/>
        </p:nvSpPr>
        <p:spPr>
          <a:xfrm rot="1500600">
            <a:off x="3896640" y="3429000"/>
            <a:ext cx="15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w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 spec_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8"/>
          <p:cNvSpPr/>
          <p:nvPr/>
        </p:nvSpPr>
        <p:spPr>
          <a:xfrm>
            <a:off x="457200" y="495288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1"/>
          <p:cNvSpPr/>
          <p:nvPr/>
        </p:nvSpPr>
        <p:spPr>
          <a:xfrm>
            <a:off x="1174320" y="4648320"/>
            <a:ext cx="194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_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2"/>
          <p:cNvSpPr/>
          <p:nvPr/>
        </p:nvSpPr>
        <p:spPr>
          <a:xfrm flipV="1">
            <a:off x="2819520" y="304776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3"/>
          <p:cNvSpPr/>
          <p:nvPr/>
        </p:nvSpPr>
        <p:spPr>
          <a:xfrm rot="17911800">
            <a:off x="2688120" y="37562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4"/>
          <p:cNvSpPr/>
          <p:nvPr/>
        </p:nvSpPr>
        <p:spPr>
          <a:xfrm>
            <a:off x="3376440" y="2590920"/>
            <a:ext cx="5257800" cy="533160"/>
          </a:xfrm>
          <a:prstGeom prst="rect">
            <a:avLst/>
          </a:prstGeom>
          <a:solidFill>
            <a:srgbClr val="ff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5"/>
          <p:cNvSpPr/>
          <p:nvPr/>
        </p:nvSpPr>
        <p:spPr>
          <a:xfrm>
            <a:off x="352908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6"/>
          <p:cNvSpPr/>
          <p:nvPr/>
        </p:nvSpPr>
        <p:spPr>
          <a:xfrm>
            <a:off x="5281560" y="2666880"/>
            <a:ext cx="3808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7034040" y="2666880"/>
            <a:ext cx="3812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48"/>
          <p:cNvSpPr/>
          <p:nvPr/>
        </p:nvSpPr>
        <p:spPr>
          <a:xfrm>
            <a:off x="5738760" y="28954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9"/>
          <p:cNvSpPr/>
          <p:nvPr/>
        </p:nvSpPr>
        <p:spPr>
          <a:xfrm>
            <a:off x="6019920" y="18288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50"/>
          <p:cNvSpPr/>
          <p:nvPr/>
        </p:nvSpPr>
        <p:spPr>
          <a:xfrm>
            <a:off x="3352680" y="1981080"/>
            <a:ext cx="175284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844640" y="19051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_reg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3"/>
          <p:cNvSpPr/>
          <p:nvPr/>
        </p:nvSpPr>
        <p:spPr>
          <a:xfrm>
            <a:off x="510552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5"/>
          <p:cNvSpPr/>
          <p:nvPr/>
        </p:nvSpPr>
        <p:spPr>
          <a:xfrm>
            <a:off x="6858000" y="1981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57"/>
          <p:cNvSpPr/>
          <p:nvPr/>
        </p:nvSpPr>
        <p:spPr>
          <a:xfrm>
            <a:off x="6248520" y="1905120"/>
            <a:ext cx="838080" cy="609480"/>
          </a:xfrm>
          <a:custGeom>
            <a:avLst/>
            <a:gdLst/>
            <a:ahLst/>
            <a:rect l="l" t="t" r="r" b="b"/>
            <a:pathLst>
              <a:path w="528" h="720">
                <a:moveTo>
                  <a:pt x="336" y="0"/>
                </a:moveTo>
                <a:lnTo>
                  <a:pt x="144" y="288"/>
                </a:lnTo>
                <a:lnTo>
                  <a:pt x="288" y="336"/>
                </a:lnTo>
                <a:lnTo>
                  <a:pt x="0" y="720"/>
                </a:lnTo>
                <a:lnTo>
                  <a:pt x="240" y="720"/>
                </a:lnTo>
                <a:lnTo>
                  <a:pt x="480" y="288"/>
                </a:lnTo>
                <a:lnTo>
                  <a:pt x="336" y="240"/>
                </a:lnTo>
                <a:lnTo>
                  <a:pt x="528" y="0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58"/>
          <p:cNvSpPr/>
          <p:nvPr/>
        </p:nvSpPr>
        <p:spPr>
          <a:xfrm>
            <a:off x="6629400" y="182880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0"/>
          <p:cNvSpPr/>
          <p:nvPr/>
        </p:nvSpPr>
        <p:spPr>
          <a:xfrm>
            <a:off x="6172200" y="2438280"/>
            <a:ext cx="609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 rot="3351600">
            <a:off x="4551120" y="3441240"/>
            <a:ext cx="241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t d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unctional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36"/>
          <p:cNvSpPr/>
          <p:nvPr/>
        </p:nvSpPr>
        <p:spPr>
          <a:xfrm flipH="1" flipV="1">
            <a:off x="3885840" y="30481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and predict up to ruu_decode_width instru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ce them into </a:t>
            </a:r>
            <a:r>
              <a:rPr b="0" lang="en-US" sz="2400" spc="-1" strike="noStrike">
                <a:solidFill>
                  <a:srgbClr val="990000"/>
                </a:solidFill>
                <a:latin typeface="Arial Narrow"/>
              </a:rPr>
              <a:t>fetch_data[]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puts: 2 globa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regs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fetch thinks is the next PC to fetch fro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pred_P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what is the predicted PC for after this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tput: fetch_data[]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fe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used by ruu_dispatch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occupied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uu_ifq_siz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total number of fetch_data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tch places insts and Dispatch consumes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 miss-predic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Cs are reset to appropriate values and fetch_data is drain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eady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952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4952880" y="41911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4952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106080" y="3962520"/>
            <a:ext cx="10112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4191120" y="42670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7238880" y="51055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7238880" y="46483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7238880" y="556272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2"/>
          <p:cNvSpPr/>
          <p:nvPr/>
        </p:nvSpPr>
        <p:spPr>
          <a:xfrm>
            <a:off x="6477120" y="457200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13"/>
          <p:cNvSpPr/>
          <p:nvPr/>
        </p:nvSpPr>
        <p:spPr>
          <a:xfrm>
            <a:off x="8229600" y="4495680"/>
            <a:ext cx="68580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2743200" y="23623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dispatc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376164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6"/>
          <p:cNvSpPr/>
          <p:nvPr/>
        </p:nvSpPr>
        <p:spPr>
          <a:xfrm>
            <a:off x="3505320" y="312408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838080" y="1447920"/>
            <a:ext cx="25909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8"/>
          <p:cNvSpPr/>
          <p:nvPr/>
        </p:nvSpPr>
        <p:spPr>
          <a:xfrm>
            <a:off x="1981080" y="2209680"/>
            <a:ext cx="1219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37560" y="3276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non-loads if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1066680" y="50292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q_refres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21"/>
          <p:cNvSpPr/>
          <p:nvPr/>
        </p:nvSpPr>
        <p:spPr>
          <a:xfrm flipV="1">
            <a:off x="2971800" y="4419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2"/>
          <p:cNvSpPr/>
          <p:nvPr/>
        </p:nvSpPr>
        <p:spPr>
          <a:xfrm>
            <a:off x="1432440" y="44956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3"/>
          <p:cNvSpPr/>
          <p:nvPr/>
        </p:nvSpPr>
        <p:spPr>
          <a:xfrm>
            <a:off x="6019920" y="2209680"/>
            <a:ext cx="259056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24"/>
          <p:cNvSpPr/>
          <p:nvPr/>
        </p:nvSpPr>
        <p:spPr>
          <a:xfrm flipH="1">
            <a:off x="5866920" y="29718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6781320" y="327672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and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6"/>
          <p:cNvSpPr/>
          <p:nvPr/>
        </p:nvSpPr>
        <p:spPr>
          <a:xfrm>
            <a:off x="4965120" y="5526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7010280" y="52578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8"/>
          <p:cNvSpPr/>
          <p:nvPr/>
        </p:nvSpPr>
        <p:spPr>
          <a:xfrm>
            <a:off x="7010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Event Queue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4724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4724280" y="34290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4724280" y="48006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876760" y="3200400"/>
            <a:ext cx="994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3962520" y="3505320"/>
            <a:ext cx="7617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7010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s or *l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7010280" y="38862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2"/>
          <p:cNvSpPr/>
          <p:nvPr/>
        </p:nvSpPr>
        <p:spPr>
          <a:xfrm>
            <a:off x="6248520" y="3809880"/>
            <a:ext cx="7617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13"/>
          <p:cNvSpPr/>
          <p:nvPr/>
        </p:nvSpPr>
        <p:spPr>
          <a:xfrm>
            <a:off x="8001000" y="3733920"/>
            <a:ext cx="685800" cy="20574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336" y="0"/>
                </a:moveTo>
                <a:lnTo>
                  <a:pt x="144" y="240"/>
                </a:lnTo>
                <a:lnTo>
                  <a:pt x="288" y="528"/>
                </a:lnTo>
                <a:lnTo>
                  <a:pt x="0" y="1008"/>
                </a:lnTo>
                <a:lnTo>
                  <a:pt x="432" y="1008"/>
                </a:lnTo>
                <a:lnTo>
                  <a:pt x="43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685800" y="1143000"/>
            <a:ext cx="25909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iss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905120" y="19051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80840" y="228600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sert at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sim_cycle +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3"/>
          <p:cNvSpPr/>
          <p:nvPr/>
        </p:nvSpPr>
        <p:spPr>
          <a:xfrm>
            <a:off x="3733920" y="1219320"/>
            <a:ext cx="259056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u_writeb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24"/>
          <p:cNvSpPr/>
          <p:nvPr/>
        </p:nvSpPr>
        <p:spPr>
          <a:xfrm flipH="1">
            <a:off x="3962520" y="198108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4913280" y="243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move upon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4752360" y="2971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_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4724280" y="4343400"/>
            <a:ext cx="1524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of Concepts/Interface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fe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ruu_dispatch via fetch_data bu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dispat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xecutes instructions in or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s load/store into addr and memory 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s to producer of input re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names output reg to RUU or LS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entering in miss-prediction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rks inst via rs-&gt;recover in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states: miss-speculated and corrected (reg files, memory, rename tables, etc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y place insts in readyq if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issu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n readyq trying to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s in readyq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dispatch: non-loads if inputs ar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sq_refresh: loads when certain that there are no confli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u_writeback: producer places consumers if they become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t fu, get latency, schedule event for writeback\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sq_refres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loads can iss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it until all preceding stores calculate their add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ll if conflict with store that has no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ummary contd.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writeback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er notifies consumers of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s if producer is ready and places in readyq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s rename tables to indicate that the result is now in the register 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ls recovery routines if this is a recover instruction (first miss-predic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uu_commi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 Sto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ease RUU and LSQ en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aveat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scalar uses optimizations to optimize for simulation spe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es not simulate an event driven memory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 careful to make sure that you use it appropriate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ruu_fetch() - loop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not a bogus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Cache with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regs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et latency of acc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I-TL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hit/mi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overall latency as max of the tw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prediction is enabled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ss predictor and get </a:t>
            </a:r>
            <a:r>
              <a:rPr b="0" lang="en-US" sz="2800" spc="-1" strike="noStrike">
                <a:solidFill>
                  <a:srgbClr val="990000"/>
                </a:solidFill>
                <a:latin typeface="Arial Narrow"/>
              </a:rPr>
              <a:t>fetch_pred_P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lus a back-pointer to predictor e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truction, PCs and prediction info go into fetch_data[fetch_tail]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tch_num++, fetch_tail++ MOD ruu_ifq_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I-Cache Interface – cache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che_acces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*cache_il1, Read/Write, Address, *IObuffer, nbytes, CycleNow, UserData, *repl_addres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Obuffer, UserData and repl_address are usually NUL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e cache.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it returns is a latency in cyc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ecks if h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miss, accesses L2 which in turn may access main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ok for il1_access_fn() and ul2_access_fn(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approxima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 real, event-driven simulation of the memory syst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eful, how one interprets the simulation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-TLB also simulated as a cache with few entries and constant, still large miss la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che does not hold memory data, only the tags of cached block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ccess memory to get insts (optimization be carefu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Branch Prediction Interface – bpred.[ch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lookup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*target_address, opcode, Call?, Return?, *back-pointer for updates, *back-pointer for stack updat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turns a Predicted 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check whether it is taken or not by comparing with the next sequential P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d_PC = PC + sizeof (md_inst_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ventually, call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pred_upd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*pred, PC, actual target_address,  taken?, pred_taken?, opcode, back_pointer, stack back-pointe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be called at writeback or comm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11360" y="624852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ECE1773 Spring ‘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© A. Moshovos (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Fetch buffer: fetch_data[]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ruct fetch_re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inst_t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R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ete instr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s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d_addr_t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d_PC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dicted P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uct bpred_update_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_upda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pred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ck_recover_idx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ck back-poin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signed i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trace_seq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int trace sequence 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tai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fetch writes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hea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dispatch reads from t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etch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w many val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u_ifq_n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x ent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0T02:17:43Z</dcterms:created>
  <dc:creator>Preferred Customer</dc:creator>
  <dc:description/>
  <dc:language>en-US</dc:language>
  <cp:lastModifiedBy>Andreas Moshovos</cp:lastModifiedBy>
  <cp:lastPrinted>2001-02-05T04:07:13Z</cp:lastPrinted>
  <dcterms:modified xsi:type="dcterms:W3CDTF">2017-02-06T02:45:45Z</dcterms:modified>
  <cp:revision>921</cp:revision>
  <dc:subject/>
  <dc:title>No Slide Title</dc:title>
</cp:coreProperties>
</file>